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E553-897F-46FA-ACDC-3B463394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FEC-D83E-454E-B7EA-986263BE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C6E-D25C-45BC-9E12-D639734F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4C3-ED69-4092-83AB-86EE852C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430-2524-4BB1-BED0-7D6987DF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822-BA8E-4A72-A039-DE14CDF9B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573-9A7A-41DD-AE89-C9F3478D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5CC-1D19-4670-9FDD-B79784D6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FAA4-EEFF-4049-995A-48BBCEB5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46D-456C-47B9-83A0-EF3872F7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86D-D5A7-4ACA-BE07-495410EBD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E89-5671-4B57-A245-D0ACBC62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D25-B6C3-45FA-BC0F-F4D974025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448-680F-4BE1-A1D1-1084BB4B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B5CB-6754-4DEB-B25D-45CB2557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5CE-F084-48ED-92AB-ACB87939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950-BD74-4E66-B35D-B935873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49C-F0B0-400D-9D73-AA7BC267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AC2-34E6-4FCB-BEDE-402A85C9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56C-5277-41AF-9363-FA8EA636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65C-A8AC-43F3-B984-7AD5DB83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B13-614E-4AD6-BA84-FCD57A2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19B-3FC2-4F94-955F-97F5EF4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F2D-39B3-4325-9330-539E794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B6A-D0D4-4FE6-8EFE-1C022CB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F4F-BC61-43CA-AD9E-308D6A7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02B-5B08-4887-9974-7F96384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80B-4EBA-4B1F-BA67-84C75C2D15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kelly@iusd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the Primary Curriculu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Application of Depth &amp;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eg Kelly, Santiago Hills Elemen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kelly@iusd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14-292-3648 (ce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with each story selection and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e understanding of strategy and skill in student’s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use of 3-5 icons to exten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mps to customiz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Graphic Organizers/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phic Organiz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Idea, Details, Unanswered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Fr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ry Detai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mp a graphic organizer you already 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mall Group/Independent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con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con c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llenge students to apply as many icons as they can to story se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day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/weave D&amp;C icons into all areas of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 on board help with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ward students for applying icons on their 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 Classroo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w increased enthusiasm and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inspired by added depth to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rise to higher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pply learning to other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 make connections to vis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aylor Education (jtayloreducation.c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mpower Primary and Inspire Change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Practical Approach to Differentiating the Primary Curricul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y Cynthia Kirk and Katherine S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the academic language thinking tools of Depth &amp; Complexity and Content Impe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xamples of how to incorporate D&amp;C tools into primary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 will be schol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olarly tra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der/refl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thoughtfu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learn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to a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rn for knowing/build curio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fy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repared to learn and take pride in thei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Depth &amp; Complexity tools can help you build scholarly traits and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epth and Complexity Icons Evol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gifted students with opportunities for higher level thinking an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dra Kaplan, U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used in GATE, upper grade, middle and high scho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th and Complexity Thinking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s, icons or prompts that activate higher levels of kn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itical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omething abstract more conc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udents to “jump” into the content and make sense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expertise and inqui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good teaching strategies - much of it you do alre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s assure that you use these strategies consistently and use them all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provide a common vocabulary and build academ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many single aspects of a single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ing deeper into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oming an expert in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connections across several topics or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ing relationships between seemingly unconnected ideas or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&amp; Complexity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00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 Imperativ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ontribution"/>
          <p:cNvPicPr/>
          <p:nvPr/>
        </p:nvPicPr>
        <p:blipFill>
          <a:blip r:embed="rId1"/>
          <a:stretch/>
        </p:blipFill>
        <p:spPr>
          <a:xfrm>
            <a:off x="990720" y="14479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19520" y="1371600"/>
            <a:ext cx="3429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ffect or impact one person or event has on oth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rigin"/>
          <p:cNvPicPr/>
          <p:nvPr/>
        </p:nvPicPr>
        <p:blipFill>
          <a:blip r:embed="rId2"/>
          <a:stretch/>
        </p:blipFill>
        <p:spPr>
          <a:xfrm>
            <a:off x="990720" y="2476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19520" y="243828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eginning, root, foundation, source, or basis for somet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arallel"/>
          <p:cNvPicPr/>
          <p:nvPr/>
        </p:nvPicPr>
        <p:blipFill>
          <a:blip r:embed="rId3"/>
          <a:stretch/>
        </p:blipFill>
        <p:spPr>
          <a:xfrm>
            <a:off x="990720" y="35812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743200" y="35290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something is similar, matching, comparable, or analog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aradox"/>
          <p:cNvPicPr/>
          <p:nvPr/>
        </p:nvPicPr>
        <p:blipFill>
          <a:blip r:embed="rId4"/>
          <a:stretch/>
        </p:blipFill>
        <p:spPr>
          <a:xfrm>
            <a:off x="990720" y="46483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19520" y="45720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gs that are opposite, contradictory, ironic or illogi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onvergence"/>
          <p:cNvPicPr/>
          <p:nvPr/>
        </p:nvPicPr>
        <p:blipFill>
          <a:blip r:embed="rId5"/>
          <a:stretch/>
        </p:blipFill>
        <p:spPr>
          <a:xfrm>
            <a:off x="990720" y="5715000"/>
            <a:ext cx="1062000" cy="797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971800" y="566244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deas or events meet, intersect, concur, merge, join or un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porating Depth &amp; Complexity Into Your Curricul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require creating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ntegrate the icons into curriculum that already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for all students, not just Challeng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can be applied to any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beneficial for English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icons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1:41:52Z</dcterms:created>
  <dc:creator>Meg Kelly</dc:creator>
  <dc:description/>
  <dc:language>en-US</dc:language>
  <cp:lastModifiedBy>Toni Wilson</cp:lastModifiedBy>
  <dcterms:modified xsi:type="dcterms:W3CDTF">2011-04-09T01:37:30Z</dcterms:modified>
  <cp:revision>219</cp:revision>
  <dc:subject/>
  <dc:title>Depth and Complexity</dc:title>
</cp:coreProperties>
</file>